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15D-1792-494B-88E1-0FB111E4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347-EE14-4D76-B5EC-6A536329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10F-1FE8-45C8-9F10-967B2202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E07-2F77-43F8-AA43-396559DC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88D-77AD-47B2-B49A-3A6C4AE4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C3A-F314-497F-9D67-15DD6B18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001-A4C1-4CCD-B7DE-4C283B92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1D8-C3DD-4621-92BE-5E21C82B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19C-79E7-428D-8E42-D6B20FB2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DC0-FE8D-4292-8B8E-5B3E972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F98-02C9-48F5-98B3-7621DE64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CE5-82D8-425B-B989-52E605DF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FE67-04AC-459D-A854-AC8617399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45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45.xml"/><Relationship Id="rId15" Type="http://schemas.openxmlformats.org/officeDocument/2006/relationships/slide" Target="slide25.xml"/><Relationship Id="rId16" Type="http://schemas.openxmlformats.org/officeDocument/2006/relationships/slide" Target="slide27.xml"/><Relationship Id="rId17" Type="http://schemas.openxmlformats.org/officeDocument/2006/relationships/slide" Target="slide29.xml"/><Relationship Id="rId18" Type="http://schemas.openxmlformats.org/officeDocument/2006/relationships/slide" Target="slide31.xml"/><Relationship Id="rId19" Type="http://schemas.openxmlformats.org/officeDocument/2006/relationships/slide" Target="slide33.xml"/><Relationship Id="rId20" Type="http://schemas.openxmlformats.org/officeDocument/2006/relationships/slide" Target="slide45.xml"/><Relationship Id="rId21" Type="http://schemas.openxmlformats.org/officeDocument/2006/relationships/slide" Target="slide45.xml"/><Relationship Id="rId22" Type="http://schemas.openxmlformats.org/officeDocument/2006/relationships/slide" Target="slide45.xml"/><Relationship Id="rId23" Type="http://schemas.openxmlformats.org/officeDocument/2006/relationships/slide" Target="slide35.xml"/><Relationship Id="rId24" Type="http://schemas.openxmlformats.org/officeDocument/2006/relationships/slide" Target="slide37.xml"/><Relationship Id="rId25" Type="http://schemas.openxmlformats.org/officeDocument/2006/relationships/slide" Target="slide39.xml"/><Relationship Id="rId26" Type="http://schemas.openxmlformats.org/officeDocument/2006/relationships/slide" Target="slide41.xml"/><Relationship Id="rId27" Type="http://schemas.openxmlformats.org/officeDocument/2006/relationships/slide" Target="slide43.xml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9.xml"/><Relationship Id="rId3" Type="http://schemas.openxmlformats.org/officeDocument/2006/relationships/slide" Target="slide52.xml"/><Relationship Id="rId4" Type="http://schemas.openxmlformats.org/officeDocument/2006/relationships/slide" Target="slide54.xml"/><Relationship Id="rId5" Type="http://schemas.openxmlformats.org/officeDocument/2006/relationships/slide" Target="slide56.xml"/><Relationship Id="rId6" Type="http://schemas.openxmlformats.org/officeDocument/2006/relationships/slide" Target="slide58.xml"/><Relationship Id="rId7" Type="http://schemas.openxmlformats.org/officeDocument/2006/relationships/slide" Target="slide60.xml"/><Relationship Id="rId8" Type="http://schemas.openxmlformats.org/officeDocument/2006/relationships/slide" Target="slide60.xml"/><Relationship Id="rId9" Type="http://schemas.openxmlformats.org/officeDocument/2006/relationships/slide" Target="slide62.xml"/><Relationship Id="rId10" Type="http://schemas.openxmlformats.org/officeDocument/2006/relationships/slide" Target="slide65.xml"/><Relationship Id="rId11" Type="http://schemas.openxmlformats.org/officeDocument/2006/relationships/slide" Target="slide67.xml"/><Relationship Id="rId12" Type="http://schemas.openxmlformats.org/officeDocument/2006/relationships/slide" Target="slide69.xml"/><Relationship Id="rId13" Type="http://schemas.openxmlformats.org/officeDocument/2006/relationships/slide" Target="slide71.xml"/><Relationship Id="rId14" Type="http://schemas.openxmlformats.org/officeDocument/2006/relationships/slide" Target="slide73.xml"/><Relationship Id="rId15" Type="http://schemas.openxmlformats.org/officeDocument/2006/relationships/slide" Target="slide75.xml"/><Relationship Id="rId16" Type="http://schemas.openxmlformats.org/officeDocument/2006/relationships/slide" Target="slide77.xml"/><Relationship Id="rId17" Type="http://schemas.openxmlformats.org/officeDocument/2006/relationships/slide" Target="slide79.xml"/><Relationship Id="rId18" Type="http://schemas.openxmlformats.org/officeDocument/2006/relationships/slide" Target="slide81.xml"/><Relationship Id="rId1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6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Monotype Corsiva"/>
                <a:hlinkClick r:id="rId1" action="ppaction://hlinksldjump"/>
              </a:rPr>
              <a:t>“OUR GAME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68720" cy="226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2573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тветь на вопрос</a:t>
            </a: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637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what lesson do you usually study events in the p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тветь на вопро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8526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t History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9288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4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Какой из заголовков правильный</a:t>
            </a: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 Literature Lesson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 Geography Lesson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 English Less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2924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92320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so exiting to learn some new facts about Great Britain. At first we read text about British School Year, then our teacher asked us several questions, I answered them excellently, after that we translated some difficult sentences (I didn’t use dictionary!)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9288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4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Какой из заголовков правильный</a:t>
            </a: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 Literature Lesson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 Geography Lesson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 English Less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2924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141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t English Less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те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хобб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278080"/>
            <a:ext cx="255096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515280" y="2278080"/>
            <a:ext cx="2384280" cy="2187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059280" y="2349360"/>
            <a:ext cx="2995560" cy="2114640"/>
          </a:xfrm>
          <a:prstGeom prst="rect">
            <a:avLst/>
          </a:prstGeom>
          <a:ln w="0">
            <a:noFill/>
          </a:ln>
        </p:spPr>
      </p:pic>
      <p:sp>
        <p:nvSpPr>
          <p:cNvPr id="106" name="Litebulb"/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те</a:t>
            </a: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хобб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278080"/>
            <a:ext cx="25509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515280" y="2278080"/>
            <a:ext cx="2384280" cy="2187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059280" y="2349360"/>
            <a:ext cx="2995560" cy="211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724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anc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4724280"/>
            <a:ext cx="23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ollecting st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4724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ra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907920"/>
            <a:ext cx="817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ставь пропущенные букв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852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_s_eni_g  to  pop  m_si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907920"/>
            <a:ext cx="817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ставь пропущенные букв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852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i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 to pop m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907920"/>
            <a:ext cx="7775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, что из перечисленного нельзя коллекционироват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28526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s, stamps, coins, marks, disk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63640" y="2637000"/>
            <a:ext cx="52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mark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907920"/>
            <a:ext cx="7775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, что из перечисленного нельзя коллекционироват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3789360"/>
            <a:ext cx="230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Script MT Bold"/>
              </a:rPr>
              <a:t>“</a:t>
            </a:r>
            <a:r>
              <a:rPr b="0" lang="en-US" sz="7000" spc="-1" strike="noStrike">
                <a:solidFill>
                  <a:srgbClr val="ff0000"/>
                </a:solidFill>
                <a:latin typeface="Script MT Bold"/>
              </a:rPr>
              <a:t>5+”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Monotype Corsiva"/>
                <a:hlinkClick r:id="rId1" action="ppaction://hlinksldjump"/>
              </a:rPr>
              <a:t>ROUND 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2085840" cy="214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26002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640" y="765000"/>
            <a:ext cx="817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Какое хобби описано в текст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484280"/>
            <a:ext cx="84978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 like to go to the library. Some of them have a good collection of books at home. They can have different   books: fiction, historical novels, books about animals and bir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ir hobby helps them to relax, to learn the world and understand other people bett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640" y="765000"/>
            <a:ext cx="817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Какое хобби описано в текст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060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56000" y="3068640"/>
            <a:ext cx="3960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050920" y="333360"/>
            <a:ext cx="518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 в мешке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38066"/>
          <a:stretch/>
        </p:blipFill>
        <p:spPr>
          <a:xfrm>
            <a:off x="2700360" y="1557360"/>
            <a:ext cx="3340080" cy="2752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25107" r="0" b="0"/>
          <a:stretch/>
        </p:blipFill>
        <p:spPr>
          <a:xfrm>
            <a:off x="2987640" y="3284640"/>
            <a:ext cx="3340080" cy="332892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pac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765000"/>
            <a:ext cx="817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тветь на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98900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flew into space on the 1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April, 1961, on the board of the spaceship “Vostok?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pac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3168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Yuri Gaga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765000"/>
            <a:ext cx="817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тветь на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752560" cy="392112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се ли профессии правильно назван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24000" y="2060640"/>
            <a:ext cx="2509560" cy="2201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492360" y="1989000"/>
            <a:ext cx="1886040" cy="2509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516720" y="2205000"/>
            <a:ext cx="1947960" cy="2077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479736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progr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4797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4797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се ли профессии правильно назван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492360" y="1989000"/>
            <a:ext cx="1886040" cy="2509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635280" y="479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nginee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Составь слов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2492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, r, l, a, e, 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Составь слов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360" y="2492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Lawy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050920" y="333360"/>
            <a:ext cx="518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 в мешке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38066"/>
          <a:stretch/>
        </p:blipFill>
        <p:spPr>
          <a:xfrm>
            <a:off x="2700360" y="1557360"/>
            <a:ext cx="3340080" cy="2752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0" t="25107" r="0" b="0"/>
          <a:stretch/>
        </p:blipFill>
        <p:spPr>
          <a:xfrm>
            <a:off x="2987640" y="3284640"/>
            <a:ext cx="3340080" cy="33289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260280"/>
          <a:ext cx="8638920" cy="619596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  <a:gridCol w="1439640"/>
                <a:gridCol w="1440000"/>
                <a:gridCol w="1440000"/>
                <a:gridCol w="1439640"/>
              </a:tblGrid>
              <a:tr h="15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Schoo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Hob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20</a:t>
                      </a:r>
                      <a:r>
                        <a:rPr b="0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Job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Charac</a:t>
                      </a: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-</a:t>
                      </a: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ood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Назови любые 3 овоща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547640" y="1413000"/>
            <a:ext cx="619308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4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Переведи на английский язык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060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ороший офисный работник должен быть ответственным, умным и творческ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4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Переведи на английский язык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2060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 good office-worker should be responsible, clever and crea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 профессию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62864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 dangerous jo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people are prepared to risk their own lives to protect their cli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of them wear bullet-proof vests, also they teach their clients how to avoid dangerous situ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 профессию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1916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 bodygu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>
            <a:alphaModFix amt="24000"/>
          </a:blip>
          <a:stretch/>
        </p:blipFill>
        <p:spPr>
          <a:xfrm>
            <a:off x="3059280" y="2924280"/>
            <a:ext cx="309528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1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Дай наиболее подходящую характеристику (1 слово)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916360" y="191628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1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Дай наиболее подходящую характеристику (1 слово)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5300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916360" y="191628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2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Выбери слова, в которых есть звук 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[ai]</a:t>
            </a: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edient, friendly, shy, noisy, polite, bra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2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Выбери слова, в которых есть звук 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[ai]</a:t>
            </a: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h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, pol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1760" y="836640"/>
            <a:ext cx="86979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ыбери положительные качеств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205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de, obedient, responsib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ughty, non-athletic, lov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те слова на картинка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2151000" cy="2509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1780920" cy="221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59640" y="3068640"/>
            <a:ext cx="2222280" cy="1805040"/>
          </a:xfrm>
          <a:prstGeom prst="rect">
            <a:avLst/>
          </a:prstGeom>
          <a:ln w="0">
            <a:noFill/>
          </a:ln>
        </p:spPr>
      </p:pic>
      <p:sp>
        <p:nvSpPr>
          <p:cNvPr id="53" name="Litebulb">
            <a:hlinkClick r:id="rId4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427640" y="2637000"/>
            <a:ext cx="2295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3560" y="836640"/>
            <a:ext cx="86979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ыбери положительные качеств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63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bedient, responsible, lov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4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127440" y="836640"/>
            <a:ext cx="98125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Вставь глагол-связку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 (is/am/are)</a:t>
            </a: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3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ke and Helen … creative and bright stud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23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ke and Helen </a:t>
            </a:r>
            <a:r>
              <a:rPr b="0" lang="en-US" sz="3600" spc="-1" strike="noStrike" u="sng">
                <a:solidFill>
                  <a:srgbClr val="800000"/>
                </a:solidFill>
                <a:uFillTx/>
                <a:latin typeface="Arial"/>
              </a:rPr>
              <a:t>are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ve and bright stud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4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127080" y="836640"/>
            <a:ext cx="98125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Вставь глагол-связку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 (is/am/are)</a:t>
            </a: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5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127440" y="836640"/>
            <a:ext cx="93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Закончи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20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ood vet should be kind, caring and responsible, …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 5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127440" y="836640"/>
            <a:ext cx="93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Закончи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20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ood vet should be kind, caring and responsible, </a:t>
            </a:r>
            <a:r>
              <a:rPr b="0" lang="en-US" sz="3600" spc="-1" strike="noStrike" u="sng">
                <a:solidFill>
                  <a:srgbClr val="800000"/>
                </a:solidFill>
                <a:uFillTx/>
                <a:latin typeface="Arial"/>
              </a:rPr>
              <a:t>shouldn’t h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Monotype Corsiva"/>
                <a:hlinkClick r:id="rId1" action="ppaction://hlinksldjump"/>
              </a:rPr>
              <a:t>ROUND I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50920" y="189000"/>
            <a:ext cx="255096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948360" y="3933720"/>
            <a:ext cx="18860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324000" y="260280"/>
          <a:ext cx="8638920" cy="619596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  <a:gridCol w="1439640"/>
                <a:gridCol w="1440000"/>
                <a:gridCol w="1440000"/>
                <a:gridCol w="1439640"/>
              </a:tblGrid>
              <a:tr h="15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choo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Hobb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40</a:t>
                      </a:r>
                      <a:r>
                        <a:rPr b="0" lang="ru-RU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Job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Charac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Закончи предло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27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learn how to use computer at …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Закончи предло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205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learn how to use computer at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formation Technolo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2302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050920" y="333360"/>
            <a:ext cx="518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 в мешке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0" t="0" r="0" b="38066"/>
          <a:stretch/>
        </p:blipFill>
        <p:spPr>
          <a:xfrm>
            <a:off x="2700360" y="1557360"/>
            <a:ext cx="3340080" cy="27525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0" t="25107" r="0" b="0"/>
          <a:stretch/>
        </p:blipFill>
        <p:spPr>
          <a:xfrm>
            <a:off x="2987640" y="3284640"/>
            <a:ext cx="3340080" cy="332892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те слова на картинка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2151000" cy="2509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1780920" cy="221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2295360" cy="235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659640" y="3068640"/>
            <a:ext cx="2222280" cy="1805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5300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4360" y="530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530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5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inem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тветь на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2349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merican actor is known as “Terminator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inema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тветь на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213372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2924280"/>
            <a:ext cx="48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rnold Schwarzenegg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5593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Исправь ошиб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47640" y="2205000"/>
            <a:ext cx="61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ka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Исправь ошиб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2205000"/>
            <a:ext cx="61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тветь на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subject don’t you have in your timetable this year: Maths, P.E., Music, English Literature, English Languag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тветь на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06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nglish 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00" y="2852640"/>
            <a:ext cx="2444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Раскрой скоб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year I (to visit) Local State School in London. The social programme (to be) very interes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year I </a:t>
            </a:r>
            <a:r>
              <a:rPr b="0" lang="en-US" sz="3600" spc="-1" strike="noStrike" u="sng">
                <a:solidFill>
                  <a:srgbClr val="800000"/>
                </a:solidFill>
                <a:uFillTx/>
                <a:latin typeface="Arial"/>
              </a:rPr>
              <a:t>visi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ocal State School in London. The social programme </a:t>
            </a:r>
            <a:r>
              <a:rPr b="0" lang="en-US" sz="3600" spc="-1" strike="noStrike" u="sng">
                <a:solidFill>
                  <a:srgbClr val="800000"/>
                </a:solidFill>
                <a:uFillTx/>
                <a:latin typeface="Arial"/>
              </a:rPr>
              <a:t>w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ery interes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Раскрой скобк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Подбери рифм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13372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ing -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 -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ding -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213372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ing -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ding -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Подбери рифм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85640" y="1052640"/>
            <a:ext cx="8172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Соотнесите транскрипцию со слов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08000" y="2565360"/>
          <a:ext cx="5554800" cy="2738520"/>
        </p:xfrm>
        <a:graphic>
          <a:graphicData uri="http://schemas.openxmlformats.org/drawingml/2006/table">
            <a:tbl>
              <a:tblPr/>
              <a:tblGrid>
                <a:gridCol w="2849760"/>
                <a:gridCol w="270504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[‘taim,teibl]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) break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[breik]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) Art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[saiəns]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) timetabl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[α:t]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) scienc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ыбери правильный предлог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42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hobby is listening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/to/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p and R’nB musi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23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hobby is listening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p and R’nB musi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ыбери правильный предлог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050920" y="333360"/>
            <a:ext cx="518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 в мешке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>
            <a:lum bright="-6000"/>
          </a:blip>
          <a:srcRect l="0" t="0" r="0" b="38066"/>
          <a:stretch/>
        </p:blipFill>
        <p:spPr>
          <a:xfrm>
            <a:off x="2700360" y="1557360"/>
            <a:ext cx="3340080" cy="2752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>
            <a:lum bright="-6000"/>
          </a:blip>
          <a:srcRect l="0" t="25107" r="0" b="0"/>
          <a:stretch/>
        </p:blipFill>
        <p:spPr>
          <a:xfrm>
            <a:off x="2987640" y="3284640"/>
            <a:ext cx="3340080" cy="332892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port 7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 спортивную игр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42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game is played by 2 teams of 6 players each on ice fie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19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Hocke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port 7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 спортивную игр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843280" y="3213000"/>
            <a:ext cx="33433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 хобб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3348000" y="2349360"/>
            <a:ext cx="25574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844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po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 хобб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7922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Задай вопрос к выделенной част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263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Last summ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ohn’s hobby was garden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263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When was John’s hobby gardening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bby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Задай вопрос к выделенной част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Какая из этих профессий характерна только для женщи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6370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wif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5640" y="1052640"/>
            <a:ext cx="8172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Соотнесите транскрипцию со слов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2492280"/>
            <a:ext cx="417672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Arial"/>
              </a:rPr>
              <a:t>1 – с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Arial"/>
              </a:rPr>
              <a:t>2 – </a:t>
            </a:r>
            <a:r>
              <a:rPr b="0" lang="en-US" sz="3800" spc="-1" strike="noStrike">
                <a:solidFill>
                  <a:srgbClr val="800000"/>
                </a:solidFill>
                <a:latin typeface="Arial"/>
              </a:rPr>
              <a:t>a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Arial"/>
              </a:rPr>
              <a:t>3 – d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Arial"/>
              </a:rPr>
              <a:t>4 – b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22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Housewif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Какая из этих профессий характерна только для женщи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059280" y="2924280"/>
            <a:ext cx="29620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Расшифруй название професс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63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,16,15,18,20,19,13,1,1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portsma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Расшифруй название професс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Составь предло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2349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s, librarian, is, the books we ne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erson, us, who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234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Librarian is a person who gives us the books we ne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Составь предло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020000" y="2637000"/>
            <a:ext cx="504720" cy="360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Найд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и обведи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профессий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tebulb">
            <a:hlinkClick r:id="rId1" action="ppaction://hlinksldjump"/>
          </p:cNvPr>
          <p:cNvSpPr/>
          <p:nvPr/>
        </p:nvSpPr>
        <p:spPr>
          <a:xfrm>
            <a:off x="8459640" y="6021360"/>
            <a:ext cx="460440" cy="5112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4360" y="1125360"/>
          <a:ext cx="4038480" cy="517536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651640" y="2133720"/>
            <a:ext cx="576000" cy="36716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24720" y="2133720"/>
            <a:ext cx="503280" cy="360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11640" y="5805360"/>
            <a:ext cx="2881440" cy="5032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51280" y="3141720"/>
            <a:ext cx="576360" cy="30956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84720" y="1628640"/>
            <a:ext cx="2303280" cy="576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51280" y="3213000"/>
            <a:ext cx="4105440" cy="5032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19640" y="1052640"/>
            <a:ext cx="504720" cy="5184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95640" y="1052640"/>
            <a:ext cx="1224000" cy="5760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20000" y="2637000"/>
            <a:ext cx="504720" cy="360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Найд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и обведи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профессий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924360" y="1125360"/>
          <a:ext cx="4038480" cy="517536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Выбери заголовок к текст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54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A Doctor”, “A Dentist”, “A Vet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292560" y="2637000"/>
            <a:ext cx="25574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440000" y="23493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 V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obs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3399"/>
                </a:solidFill>
                <a:latin typeface="Arial"/>
              </a:rPr>
              <a:t>Выбери заголовок к текст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154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A Doctor”, “A Dentist”, “A Vet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024360" y="3213000"/>
            <a:ext cx="3095280" cy="2549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ыбери слово, подходящее по смыслу к выделенному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133720"/>
            <a:ext cx="91440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iou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 traditiona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 talkati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 indepen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йди лишнее слово</a:t>
            </a:r>
            <a:r>
              <a:rPr b="1" lang="en-US" sz="3800" spc="-1" strike="noStrike">
                <a:solidFill>
                  <a:srgbClr val="ffff05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1700280"/>
            <a:ext cx="676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Educa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h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Technolog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encil-Sharpen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2133720"/>
            <a:ext cx="914400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) talk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Выбери слово, подходящее по смыслу к выделенному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 слова противоположные по смысл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26370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d –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te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y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26370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d – 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ru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te –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sy –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quiet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зови слова противоположные по смысл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йди пару слов с ошибкой, исправь её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24210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endly – unfriendly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y – unhapp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hletic – unathleti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tebulb">
            <a:hlinkClick r:id="rId1" action="ppaction://hlinksldjump"/>
          </p:cNvPr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24210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endly – unfriendly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y – unhapp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hletic –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non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hleti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йди пару слов с ошибкой, исправь её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предели время предложения и назови указатели времен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year I shall be a strong young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tebulb"/>
          <p:cNvSpPr/>
          <p:nvPr/>
        </p:nvSpPr>
        <p:spPr>
          <a:xfrm>
            <a:off x="8459640" y="6093000"/>
            <a:ext cx="460440" cy="5108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2349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uture Simple 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Next ye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hall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strong young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Определи время предложения и назови указатели времен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racteristics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Расскажи стихотвор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184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Family Comes from Around the Worl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rcRect l="0" t="0" r="0" b="3352"/>
          <a:stretch/>
        </p:blipFill>
        <p:spPr>
          <a:xfrm>
            <a:off x="2843280" y="3068640"/>
            <a:ext cx="33130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Monotype Corsiva"/>
              </a:rPr>
              <a:t>ROUND II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1760760" cy="2508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677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0036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Разгадай кроссворд, и в сером поле ты прочитаешь фамилию известного путешественник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192720" cy="42084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chool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Найди лишнее слово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2565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 pencil-sharp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32400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4494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740520"/>
                <a:gridCol w="1083240"/>
                <a:gridCol w="1084680"/>
                <a:gridCol w="1082880"/>
                <a:gridCol w="1015920"/>
                <a:gridCol w="1016280"/>
                <a:gridCol w="1017720"/>
                <a:gridCol w="1082880"/>
                <a:gridCol w="101952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23240" y="0"/>
            <a:ext cx="21207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olumbus Christofor –</a:t>
            </a:r>
            <a:br>
              <a:rPr sz="4400"/>
            </a:b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a famous traveller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995640" y="2349360"/>
            <a:ext cx="4932360" cy="3127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3562200" cy="44290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1:11:02Z</dcterms:created>
  <dc:creator>Заводская Любовь Михайловна 210-395-195</dc:creator>
  <dc:description/>
  <dc:language>en-US</dc:language>
  <cp:lastModifiedBy>Vlad</cp:lastModifiedBy>
  <dcterms:modified xsi:type="dcterms:W3CDTF">2012-05-10T23:17:58Z</dcterms:modified>
  <cp:revision>66</cp:revision>
  <dc:subject>We are gping to travel</dc:subject>
  <dc:title>Своя игра</dc:title>
</cp:coreProperties>
</file>